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EC1-63BD-4491-9F4B-A4D86845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575-93A7-48CD-AE24-0C1F04DD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quidoo.com/trizz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4F3A-FCC0-4DF0-B645-9CC605423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flowering-plants/angiosperm-life-cycle/flower-and-pollinators-evolved-togeth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orch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45F-BA65-49A0-B7C7-A3B5C4FF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354A-C690-47EA-8D4A-056552C5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evolution/library/01/6/image_pop/l_016_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44FB-B678-44B3-A9D1-CC007B22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A855-E7D4-4204-8BB9-B14D149C5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chsweb.lr.k12.nj.us/mstanley/outlines/evolution/selection/seltyp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FA93-71CE-4451-A8F8-4233F754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7BF-3245-4F16-801A-D27E0DD5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evolution/library/01/4/image_pop/l_014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26D-2D35-4082-B2FB-D16F687F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xtwriter.com/backgrounders/evolution/EVpage1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C38C-F2AF-4B82-888B-7B0AF3EF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69F4-0985-4933-8F5B-D3887789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zooblogogy.tumblr.com/post/39029261422/during-his-trip-to-madagascar-charles-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C4A-DA99-4D70-8BC1-8F7D6251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0C5-42DC-4794-A803-D106B49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2C6-CD3A-44E9-B25A-872DC998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8EB-6222-47DE-94FB-89EDD2C0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5BD-6C27-424F-9FB7-5C93C0EB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4D1-6558-440B-9390-302E144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9C1-4AFF-48E5-9944-7DA3CC0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71D-517D-41BA-89B1-67E3EA6F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DBF-E74B-41C3-B356-018B47E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B09-14F4-44BE-8BF7-4780E7D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7EA-C865-463D-8AA1-217FEE5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DAB-B19E-4A22-889F-0A90BFA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BCD-B148-499F-9A78-9277E360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cM23M-CCog" TargetMode="External"/><Relationship Id="rId2" Type="http://schemas.openxmlformats.org/officeDocument/2006/relationships/hyperlink" Target="https://www.youtube.com/watch?v=mcM23M-CCo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 (8.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ophrys-apifera-28flower-29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pecies evolves in response to the evolution of anothe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onounced in symbiotic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ak of the Fi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40-year+ study on the evolution of finch beaks on the Galapagos Islands that nicely illustrates natural selection, reproductive isolating mechanisms, patterns of evolution, etc.  Video link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=mcM23M-CC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_016_02_l"/>
          <p:cNvPicPr/>
          <p:nvPr/>
        </p:nvPicPr>
        <p:blipFill>
          <a:blip r:embed="rId1"/>
          <a:stretch/>
        </p:blipFill>
        <p:spPr>
          <a:xfrm>
            <a:off x="304920" y="1630440"/>
            <a:ext cx="86104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pecies into many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variety of formerly empty ecological n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ltyp2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 group into many different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between species is minimized because each fills specialized ecological 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increased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l_014_01_l"/>
          <p:cNvPicPr/>
          <p:nvPr/>
        </p:nvPicPr>
        <p:blipFill>
          <a:blip r:embed="rId1"/>
          <a:stretch/>
        </p:blipFill>
        <p:spPr>
          <a:xfrm>
            <a:off x="304920" y="1911240"/>
            <a:ext cx="84582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page14"/>
          <p:cNvPicPr/>
          <p:nvPr/>
        </p:nvPicPr>
        <p:blipFill>
          <a:blip r:embed="rId1"/>
          <a:stretch/>
        </p:blipFill>
        <p:spPr>
          <a:xfrm>
            <a:off x="2387520" y="609480"/>
            <a:ext cx="4367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similar traits (analagous features) in distantly relat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under similar selective pressures (enviro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umblr_mfps0nzacX1r73gb1o1_400"/>
          <p:cNvPicPr/>
          <p:nvPr/>
        </p:nvPicPr>
        <p:blipFill>
          <a:blip r:embed="rId1"/>
          <a:stretch/>
        </p:blipFill>
        <p:spPr>
          <a:xfrm>
            <a:off x="750960" y="1981080"/>
            <a:ext cx="764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2:05:00Z</dcterms:created>
  <dc:creator>rubina khan</dc:creator>
  <dc:description/>
  <dc:language>en-US</dc:language>
  <cp:lastModifiedBy>rubina khan</cp:lastModifiedBy>
  <dcterms:modified xsi:type="dcterms:W3CDTF">2017-04-27T12:58:29Z</dcterms:modified>
  <cp:revision>16</cp:revision>
  <dc:subject/>
  <dc:title>PowerPoint Presentation</dc:title>
</cp:coreProperties>
</file>